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3D0F-6DEC-4D9F-A3E3-CD6F0546A8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8ABC-596D-4EB7-B813-AFB1206DE1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и на странице – переход к терминам. Возвращение к слайду – нажать на кнопку со стрел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56C0-050A-4E50-B368-FE5521C71B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 (лат. audit - он слышит, англ. audit - проверка, ревизия) – анализ  деятельности в данном случае педагога, проверка соответствия деятельности определенным установленным правилам, нормам проводимая квалифицированными специалис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6F05-BAFA-4689-9CE5-46062DC817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4DA6-0943-4A59-9AA4-A574DEED80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этого вступительное слово из введения в Про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0059-F438-4FF3-AFC4-8C85792003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этого вступительное слово из введения в Про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2ECA-63DF-4C09-9E86-6C35FC43A0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й закон № 273-ФЗ от 29.12.2012 «Об образовании в Российской Федерации» (далее – ФЗ) относит дошкольное образование к одному из уровней общего. Кроме того, в ФЗ, наряду с такой функцией, как уход и присмотр за ребенком, за дошкольными организациями закрепляется обязанность осуществлять образовательную деятельность, выделяемую в отдельную услугу. В соответствии с законом, сегодня любая школа вправе реализовывать программы дошкольного образования. Отсюда возникает необходимость единого подхода к профессиональным компетенциям педагога дошкольного образования и учител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?? Есть требования к педагогу дошкольного образования, начальной школы, а основной и старшей – есть ли необходим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7274-2EF3-495B-97EF-C928E8A4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9E53-49C3-494B-959E-5A693422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AA6F-97E2-4F32-BB6B-6C10176E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8F5E-E63F-45B2-B7F5-CCC1C082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4690-53D0-4150-BB70-AB43055D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8B0C-01A2-481B-81A2-600EE278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47C1-87C2-462F-82BD-418D6F20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997A-9338-4730-80C6-B9CF6083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954D-AD5A-4571-B8E4-F150A230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EBB2-CDED-4D1B-A939-74B4B2BC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CBB9-8066-4995-AEDF-4B565D97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EA5-09F9-449A-A4F8-0CEF003D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6E99-D815-4F74-8B53-FF61260C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7468-EA1E-4120-B8D4-95CD541F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CCA5-4D8B-4D96-AC81-B3F9CDC5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CCB7-9D86-4359-A847-9AAE1DB8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4C43-5B72-4853-B836-BF4FCEE8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B72AA-54D5-430A-88D6-DBBBBD1D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0D93C-DC42-464A-BA2A-D7C48B4E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29AE3-B387-4BAA-9EAC-1738F5E6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1CD8B-5DBF-4CD2-8FAC-37B4940A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1D910-F5BD-446C-930A-E05537F4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E1E1-441E-456B-B74A-A265830A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C8ABA-49E7-4766-862C-492E4373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5005D-B638-4F34-987E-213A9692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0C07C-5DCE-4E52-A729-DF7B3C27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7F339-ED9E-47BF-B2D9-5862C471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ACC59-80A4-4BC4-9331-FFC0951A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E001E-88E5-4C56-851A-9FAC7042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AD79B-A7F3-474D-BF77-A4FB2F88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0D4C0-D160-49F7-8536-7634BECA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608BE-13C2-4571-B466-8C191B76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D77E7-1F84-4472-86EF-1DE88499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D291-BC01-4278-8581-E3441ED4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DF930-76D4-4A91-9678-3C58591F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3C44D-8B6E-4DC6-88B6-8F3F25E1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6892F-6076-448C-A22C-12AB0932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4F108-BED2-4726-A47F-33714D18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F174C-A63F-48FB-BB92-A9DBD32F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3D6A8-F9D5-410E-A7CE-396B660A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E5B16-9FA4-4495-A2B4-447D0504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FFE8E-2D45-479F-BC08-24EE6B80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38F23-7289-4302-A9D7-CA1174A6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B9387-FAF4-4B6E-A7F8-833BFEEB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E88D-971A-444F-8AD2-E372A4D1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EFCBA-311C-42F6-B9C8-FCDB60BE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15ED1-0C26-4743-A188-E116B3A5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17C13-A4F4-441D-BCD3-120BB8D0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AB2B9-2B53-4A82-90CA-12ACCAB0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B2781-3656-46CC-9854-620AEA1F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76FAE-1884-4549-B25D-7761EEB7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E1FA0-8869-471C-A4D1-73760F44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18C5D-ACC8-4BD2-9AD1-28FCB5D5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A740E-08D0-41D6-B7C8-ADB9D43B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F2C45-BC36-4E18-9F51-2586C268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C83-C3EE-45C2-AC57-81F1A209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71DE8-1F68-4399-B24A-F1A78086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41447-E567-4022-A35C-ACF9B4A1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A1809-DEC2-4CAF-B39F-A868D900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4F2CD-EA46-49BD-9611-DFEA3D99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528A1-5F09-4D27-8381-76A69643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1B5FB-F256-4481-9483-B5C6A2B9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9EB76-255E-4D99-BA43-330C40B2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A17C8-462B-41A8-8F1B-14604708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84DF6-A908-479C-9862-97DBE89F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36016-161B-4BBD-A8F7-EA52E8DD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F683-1612-461D-9FFF-6C513424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48C25-16C8-4EDD-B6FE-B64F2B39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4FA75-9CD7-4BD2-873D-28ECB8E5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EA1DC-6377-471A-8AA2-FFA0D7AD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E5191-EC54-451D-8DEB-E1451896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89A84-DE86-48D1-A697-85E3749B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8EF58-5CAB-4612-A9E1-3863F6F0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DB76D-9640-4441-8ADC-10BB1B13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E3F22-67FB-4944-BEB3-62AAF90B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4B6D4-BC1C-4337-A5E8-F5C345AA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23DA9-64CD-410D-93CD-AD85AE18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7052-244A-4A24-B4BA-D6C4B46E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A7F99-478F-4168-889B-92A31B6D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39083-99A4-4AA9-BAE0-165FB898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D0B61-8DB4-45DB-8865-408525FA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7A28E-9322-443D-AD8C-DD279DE5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59123-52F5-42E7-BA39-8BBF94EE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DD4C-73CD-407E-9957-B621196B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3DAE-19B3-494A-A0FE-17C54A4F13E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F6F2-8E6E-4F05-A871-D5ECBD99897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2DA5-ECFE-4497-B827-56606663F7F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091C-84AE-40FA-9E6E-ECBDFA0BBA4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DDB3-C793-48B7-B74D-F4FB8D61C93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7FF9-11EF-4BD6-9E87-4D644A3129D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77BC-495E-48F4-93F3-A63242FBB28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36.xml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7.xml"/><Relationship Id="rId3" Type="http://schemas.openxmlformats.org/officeDocument/2006/relationships/slide" Target="slide35.xml"/><Relationship Id="rId4" Type="http://schemas.openxmlformats.org/officeDocument/2006/relationships/slide" Target="slide38.xml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совет</a:t>
            </a:r>
            <a:r>
              <a:rPr b="1" i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br>
              <a:rPr sz="4300"/>
            </a:br>
            <a:r>
              <a:rPr b="1" i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«</a:t>
            </a: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офессиональный  стандарт педагога»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395280" y="1687680"/>
            <a:ext cx="8748720" cy="49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стандарт педагога отражает </a:t>
            </a:r>
            <a:r>
              <a:rPr b="0" lang="ru-RU" sz="24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структуру его профессиональ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бучение, воспитание и развитие ребенка. В соответствии со стратегией современного образования в меняющемся мире, он существенно наполняется психолого-педагогическими компетенциями, призванными помочь учителю в решении новых стоящих перед ним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выдвига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личностным качествам учите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тделимым от его </a:t>
            </a:r>
            <a:r>
              <a:rPr b="0" lang="ru-RU" sz="24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профессиональных компетен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их как: готовность учить всех без исключения детей, вне зависимости от их склонностей, способностей, особенностей развития, ограниченных возмож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0" y="83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рактеристика станд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1258920" y="2061360"/>
            <a:ext cx="75610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координированный рост свободы и ответственности педагога за результаты свое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ировать педагога на постоянное повышение квалифик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0" y="47628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сиональный стандарт педагога выполняет функции, призван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20"/>
          <p:cNvSpPr/>
          <p:nvPr/>
        </p:nvSpPr>
        <p:spPr>
          <a:xfrm>
            <a:off x="1116000" y="1484280"/>
            <a:ext cx="7201080" cy="1514520"/>
          </a:xfrm>
          <a:prstGeom prst="roundRect">
            <a:avLst>
              <a:gd name="adj" fmla="val 34972"/>
            </a:avLst>
          </a:prstGeom>
          <a:solidFill>
            <a:srgbClr val="ccffcc">
              <a:alpha val="14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2195640" y="549360"/>
            <a:ext cx="61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Область при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3944880" y="14842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168920" y="1989000"/>
            <a:ext cx="2215440" cy="459720"/>
          </a:xfrm>
          <a:prstGeom prst="rect">
            <a:avLst/>
          </a:prstGeom>
          <a:solidFill>
            <a:srgbClr val="ffcc9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шко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3417840" y="1989000"/>
            <a:ext cx="1956240" cy="459720"/>
          </a:xfrm>
          <a:prstGeom prst="rect">
            <a:avLst/>
          </a:prstGeom>
          <a:solidFill>
            <a:srgbClr val="ccffcc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5443560" y="1989000"/>
            <a:ext cx="2757960" cy="4597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го средн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3425760" y="249228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0" y="321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ессиональный стандарт педагога может применять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6"/>
          <p:cNvSpPr/>
          <p:nvPr/>
        </p:nvSpPr>
        <p:spPr>
          <a:xfrm>
            <a:off x="324000" y="3863880"/>
            <a:ext cx="2735280" cy="2519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при приеме на работу</a:t>
            </a:r>
            <a:r>
              <a:rPr b="0" lang="ru-RU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общеобразова-тельное учрежде-ние на должность «педагог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7"/>
          <p:cNvSpPr/>
          <p:nvPr/>
        </p:nvSpPr>
        <p:spPr>
          <a:xfrm>
            <a:off x="6227640" y="4365720"/>
            <a:ext cx="2664000" cy="2016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амими образова-тельными орга-низация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в случае предостав-ления им соот-ветствующих пол-номоч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8"/>
          <p:cNvSpPr/>
          <p:nvPr/>
        </p:nvSpPr>
        <p:spPr>
          <a:xfrm>
            <a:off x="3276720" y="4365720"/>
            <a:ext cx="2663640" cy="2016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региональными органа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спол-нительной власти, осуществляющи-ми управление в сфере образова-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9"/>
          <p:cNvSpPr/>
          <p:nvPr/>
        </p:nvSpPr>
        <p:spPr>
          <a:xfrm>
            <a:off x="395280" y="307188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1"/>
          <p:cNvSpPr/>
          <p:nvPr/>
        </p:nvSpPr>
        <p:spPr>
          <a:xfrm>
            <a:off x="3276720" y="4005360"/>
            <a:ext cx="5616360" cy="360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при проведении аттестации педагог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0" y="83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при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826920" y="1509840"/>
            <a:ext cx="79758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необходимую квалификацию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, которая влияет на результаты обучения, воспитания и развит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ую подготов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дагога для получения высоких результатов е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ую осведомлен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дагога о предъявляемых к нему требова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ова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ни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ов в решение задачи повышения качества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1332000" y="260280"/>
            <a:ext cx="73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держание профессиональ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дарта педаг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1"/>
          <p:cNvSpPr/>
          <p:nvPr/>
        </p:nvSpPr>
        <p:spPr>
          <a:xfrm>
            <a:off x="1042920" y="143028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едагога (личностные качества и профессиональные компетенции, необходимые педагогу для осуществления развивающей деятель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 компетенции педагога,  отражающие специфику работы началь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 требования к учителям – предметникам (Приложение 3: математика и информатика, русский язы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оценки выполнения требований профессионального стандарта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1. ИКТ -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2. Психолого-педагогические требования к квалификации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369720" y="54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Термины и определения применительно к педагогу</a:t>
            </a:r>
            <a:r>
              <a:rPr b="0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1"/>
          <p:cNvSpPr/>
          <p:nvPr/>
        </p:nvSpPr>
        <p:spPr>
          <a:xfrm>
            <a:off x="1187280" y="1197000"/>
            <a:ext cx="7848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Квалификация педагог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отражает уровень профессиональной подготовки учителя и его готовность к труду в сфере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Профессиональная компетенц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пособность успешно действовать на основе практического опыта, умения и знаний при решении профессиональных зада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Региональное дополнение к профессиональному стандарт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умент, включающий дополнительные требования к квалификации педагога, позволяющие ему выполнять свои обязанности в реальном социокультурном контекс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Инклюзивное или включенное образование</a:t>
            </a:r>
            <a:r>
              <a:rPr b="0" lang="ru-RU" sz="20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ермин, используемый для описания процесса обучения детей с особыми потребностями в общеобразовательных (массовых) шко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684360" y="-438120"/>
            <a:ext cx="83167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3">
            <a:hlinkClick r:id="" action="ppaction://hlinkshowjump?jump=previousslide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"/>
          <p:cNvSpPr/>
          <p:nvPr/>
        </p:nvSpPr>
        <p:spPr>
          <a:xfrm>
            <a:off x="1187280" y="890640"/>
            <a:ext cx="7705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Внутренний стандарт образовательной организа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умент, определяющий квалификационные требования к педагогу, соответствующий реализуемым в данной организации образовательным программ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Ключевые области стандарта педагог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азделы стандарта, соответствующие структуре профессиональной деятельности педагога: обучение, воспитание и развитие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Профессиональная ИКТ-компетент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валифицированное использование общераспространенных в данной профессиональной области в развитых странах средств ИКТ при решении профессиональных задач там, где это необходим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1187280" y="261000"/>
            <a:ext cx="79567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Ауд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истематический, независимый и документируемый процесс получения свидетельств аудита и их объективного оценивания в целях установления степени выполнения треб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">
            <a:hlinkClick r:id="" action="ppaction://hlinkshowjump?jump=previousslide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1116000" y="1989720"/>
            <a:ext cx="784872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Внутренний аудит</a:t>
            </a:r>
            <a:r>
              <a:rPr b="0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аудит, осуществляемый самой организацией или другой организацией от ее имени для внутренних целей. Например, внутренний аудит может быть проведен для подтверждения результативности системы менеджмента или </a:t>
            </a:r>
            <a:r>
              <a:rPr b="0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оценки квалификации работников, а также оценки соответствия предъявляемым к ним профессиональным требо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1116000" y="4797360"/>
            <a:ext cx="80280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Внешний аудит</a:t>
            </a:r>
            <a:r>
              <a:rPr b="0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удит, проводимый независимой от образовательной организации стороной. Внешний аудит может быть осуществлен </a:t>
            </a:r>
            <a:r>
              <a:rPr b="0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надзорными органа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организациями, представляющими интересы потреб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 работы в группах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Прямоугольник 2"/>
          <p:cNvSpPr/>
          <p:nvPr/>
        </p:nvSpPr>
        <p:spPr>
          <a:xfrm>
            <a:off x="1187280" y="1484280"/>
            <a:ext cx="734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появляется нового в перечне трудовых действий, необходимых умений и знаний для учителей Вашей ступени образования/предметной обл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трудности могут возникнуть в связи с введением профессионального стандарта педаго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дагогическая деятельность по реализации программ основного и среднего общего образования. Трудовые действия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250920" y="1052640"/>
          <a:ext cx="8858160" cy="5771880"/>
        </p:xfrm>
        <a:graphic>
          <a:graphicData uri="http://schemas.openxmlformats.org/drawingml/2006/table">
            <a:tbl>
              <a:tblPr/>
              <a:tblGrid>
                <a:gridCol w="8858160"/>
              </a:tblGrid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общекультурных компетенций и понимания места предмета в общей картине м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04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на основе анализа учебной деятельности обучающегося оптимальных (в том или ином предметном образовательном контексте) способов его обучения и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3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 совместно с обучающимся, его родителями (законными представителями), другими участниками образовательного процесса (педагог-психолог, учитель-дефектолог, методист и т. д.)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ы его ближайшего развития, разработка и реализация (при необходимости) индивидуального образовательного маршрута и индивидуальной программы развития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3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ого образовательного процесса для группы, класса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/или отдельных контингентов обучающихся с выдающимися способностями  и/или особыми образовательными потребностями на основе имеющихся типовых программ и собственных разработок с учетом специфики состава обучающихся, уточнение и модификация план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08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ых языковых программ (в том числе русского как иностранного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программ повышения языковой культуры, и развития навыков поликультурного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стное с учащимися использование иноязычных источников информации, инструментов перевода, произно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олимпиад, конференций, турниров математических и лингвистических игр в школе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Gill Sans MT"/>
              </a:rPr>
              <a:t>УТВЕРЖДЕН </a:t>
            </a:r>
            <a:br>
              <a:rPr sz="3900"/>
            </a:br>
            <a:r>
              <a:rPr b="0" lang="ru-RU" sz="1600" spc="-1" strike="noStrike">
                <a:solidFill>
                  <a:srgbClr val="572314"/>
                </a:solidFill>
                <a:latin typeface="Gill Sans MT"/>
              </a:rPr>
              <a:t>приказом Министерства труда и социальной защиты Российской Федерации </a:t>
            </a:r>
            <a:br>
              <a:rPr sz="1600"/>
            </a:br>
            <a:r>
              <a:rPr b="0" lang="ru-RU" sz="1600" spc="-1" strike="noStrike">
                <a:solidFill>
                  <a:srgbClr val="572314"/>
                </a:solidFill>
                <a:latin typeface="Gill Sans MT"/>
              </a:rPr>
              <a:t>от «18» октября 2013 г. № 544н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700280"/>
            <a:ext cx="7499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СТАНДАР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 (педагогическая деятельность в дошкольном, начальном общем, основном общем, среднем общем образовании)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спитатель, учитель)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дагогическая деятельность по реализации программ основного и среднего общего образования. Необходимые умения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324000" y="1268280"/>
          <a:ext cx="8572320" cy="5348520"/>
        </p:xfrm>
        <a:graphic>
          <a:graphicData uri="http://schemas.openxmlformats.org/drawingml/2006/table">
            <a:tbl>
              <a:tblPr/>
              <a:tblGrid>
                <a:gridCol w="8572320"/>
              </a:tblGrid>
              <a:tr h="8226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ять современные образовательные технологии, включая информационные, а также цифровые образовательные ресурс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ить учебные занятия, опираясь на достижения в области педагогической и психологической наук, возрастной физиологии и школьной гигиены, а также современных информационных технологий и методик обуч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ть и осуществлять учебный процесс в соответствии с основной общеобразовательной программ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08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атывать рабочую программу по предмету, курсу на основе примерных основных общеобразовательных программ и обеспечивать ее выполнение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ть самостоятельную деятельность обучающихся, в том числе исследовательску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атывать и реализовывать проблемное обучение, осуществлять связь обучения по предмету (курсу, программе) с практикой, обсуждать с обучающимися актуальные события соврем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ть контрольно-оценочную деятельность в образовательном процесс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дагогическая деятельность по реализации программ основного и среднего общего образования. Необходимые умения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395280" y="907920"/>
          <a:ext cx="8501040" cy="5726160"/>
        </p:xfrm>
        <a:graphic>
          <a:graphicData uri="http://schemas.openxmlformats.org/drawingml/2006/table">
            <a:tbl>
              <a:tblPr/>
              <a:tblGrid>
                <a:gridCol w="8501040"/>
              </a:tblGrid>
              <a:tr h="1420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современные способы оценивания в условиях информационно-коммуникационных технологий (ведение электронных форм документации, в том числе электронного журнала и дневников обучающихс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9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разнообразные формы, приемы, методы и средства обучения, в том числе по индивидуальным учебным планам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коренным курсам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мках федеральных государственных образовательных стандартов основного общего образования и среднего общего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ть основами работы с текстовыми редакторами, электронными таблицами, электронной почтой и браузерами, мультимедийным оборудование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ть методами убеждения, аргументации своей пози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4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ть контакты с обучающимися разного возраста и их родителями (законными представителями), другими педагогическими и иными работника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ть технологиями диагностики причин конфликтных ситуаций, их профилактики и разре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дагогическая деятельность по реализации программ основного и среднего общего образования. Необходимые знания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68360" y="981000"/>
          <a:ext cx="8427960" cy="5688000"/>
        </p:xfrm>
        <a:graphic>
          <a:graphicData uri="http://schemas.openxmlformats.org/drawingml/2006/table">
            <a:tbl>
              <a:tblPr/>
              <a:tblGrid>
                <a:gridCol w="8427960"/>
              </a:tblGrid>
              <a:tr h="1336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общетеоретических дисциплин в объеме, необходимых для решения педагогических, научно-методических и организационно-управленческих задач (педагогика, психология, возрастная физиология; школьная гигиена; методика преподавания предмет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ы и учебники по преподаваемому предме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6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ия и методы управления образовательными системами, методика учебной и воспитательной работы, требования к оснащению и оборудованию учебных кабинетов и подсобных помещений к ним, средства обучения и их дидактические возмож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е педагогические технологии реализации компетентностного подхода с учетом возрастных и индивидуальных особенностей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 технологии поликультурного, дифференцированного и развивающего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экологии, экономики, социологии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внутреннего распоряд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по охране труда и требования к безопасности образовательной ср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1187280" y="1165680"/>
            <a:ext cx="7777440" cy="53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одаренными учащими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условиях реализации программ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инклюзивного образ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учащимися, имеющими проблемы в разви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девиантными, зависимыми, социально запущенными и социально уязвимыми учащимися, имеющими серьезные отклонения в повед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ние русского языка учащимся, для которых он не является род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4" descr="Рисунок2"/>
          <p:cNvPicPr/>
          <p:nvPr/>
        </p:nvPicPr>
        <p:blipFill>
          <a:blip r:embed="rId2"/>
          <a:stretch/>
        </p:blipFill>
        <p:spPr>
          <a:xfrm>
            <a:off x="324000" y="189000"/>
            <a:ext cx="515880" cy="109512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5"/>
          <p:cNvSpPr/>
          <p:nvPr/>
        </p:nvSpPr>
        <p:spPr>
          <a:xfrm>
            <a:off x="839880" y="549360"/>
            <a:ext cx="81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бходимость наполнения профессионального стандарта педагога новыми компетенци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Цель</a:t>
            </a: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116000" y="907560"/>
            <a:ext cx="781848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включени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го коллектива школы в изучение профессионального  стандарта педагог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дачи: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оложения стандарта педагога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отдельные пункты стандарт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Рисунок1"/>
          <p:cNvPicPr/>
          <p:nvPr/>
        </p:nvPicPr>
        <p:blipFill>
          <a:blip r:embed="rId1"/>
          <a:stretch/>
        </p:blipFill>
        <p:spPr>
          <a:xfrm>
            <a:off x="0" y="18900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6"/>
          <p:cNvSpPr/>
          <p:nvPr/>
        </p:nvSpPr>
        <p:spPr>
          <a:xfrm>
            <a:off x="0" y="907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чем нужен профессиональный стандарт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3276720" y="1557360"/>
            <a:ext cx="5724360" cy="79200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3408480" y="2565360"/>
            <a:ext cx="5724360" cy="93672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3276720" y="3862440"/>
            <a:ext cx="5724360" cy="79200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3276720" y="4726080"/>
            <a:ext cx="5724360" cy="79200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3"/>
          <p:cNvSpPr/>
          <p:nvPr/>
        </p:nvSpPr>
        <p:spPr>
          <a:xfrm>
            <a:off x="3276720" y="5589720"/>
            <a:ext cx="5724360" cy="105876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324000" y="3643200"/>
            <a:ext cx="25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ндарт это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AutoShape 15"/>
          <p:cNvCxnSpPr>
            <a:stCxn id="337" idx="3"/>
            <a:endCxn id="332" idx="1"/>
          </p:cNvCxnSpPr>
          <p:nvPr/>
        </p:nvCxnSpPr>
        <p:spPr>
          <a:xfrm flipV="1">
            <a:off x="2916000" y="1953720"/>
            <a:ext cx="361080" cy="197856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39" name="AutoShape 16"/>
          <p:cNvCxnSpPr>
            <a:stCxn id="337" idx="3"/>
            <a:endCxn id="333" idx="1"/>
          </p:cNvCxnSpPr>
          <p:nvPr/>
        </p:nvCxnSpPr>
        <p:spPr>
          <a:xfrm flipV="1">
            <a:off x="2916000" y="3033360"/>
            <a:ext cx="492840" cy="89928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40" name="AutoShape 17"/>
          <p:cNvCxnSpPr>
            <a:stCxn id="337" idx="3"/>
            <a:endCxn id="334" idx="1"/>
          </p:cNvCxnSpPr>
          <p:nvPr/>
        </p:nvCxnSpPr>
        <p:spPr>
          <a:xfrm>
            <a:off x="2916000" y="3932280"/>
            <a:ext cx="361080" cy="32760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41" name="AutoShape 18"/>
          <p:cNvCxnSpPr>
            <a:stCxn id="337" idx="3"/>
            <a:endCxn id="335" idx="1"/>
          </p:cNvCxnSpPr>
          <p:nvPr/>
        </p:nvCxnSpPr>
        <p:spPr>
          <a:xfrm>
            <a:off x="2916000" y="3931920"/>
            <a:ext cx="361080" cy="119124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42" name="AutoShape 19"/>
          <p:cNvCxnSpPr>
            <a:stCxn id="337" idx="3"/>
            <a:endCxn id="336" idx="1"/>
          </p:cNvCxnSpPr>
          <p:nvPr/>
        </p:nvCxnSpPr>
        <p:spPr>
          <a:xfrm>
            <a:off x="2916000" y="3932280"/>
            <a:ext cx="361080" cy="218808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Рисунок1"/>
          <p:cNvPicPr/>
          <p:nvPr/>
        </p:nvPicPr>
        <p:blipFill>
          <a:blip r:embed="rId1"/>
          <a:stretch/>
        </p:blipFill>
        <p:spPr>
          <a:xfrm>
            <a:off x="0" y="18900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6"/>
          <p:cNvSpPr/>
          <p:nvPr/>
        </p:nvSpPr>
        <p:spPr>
          <a:xfrm>
            <a:off x="0" y="907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чем нужен профессиональный стандарт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3276720" y="1557360"/>
            <a:ext cx="5724360" cy="79200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мент реализации стратегии образования в меняющемся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3276720" y="2421000"/>
            <a:ext cx="5724360" cy="136836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мент повышения качества образования и выхода отечественного образования на международн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3276720" y="3862440"/>
            <a:ext cx="5724360" cy="79200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ивный измеритель квалификации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"/>
          <p:cNvSpPr/>
          <p:nvPr/>
        </p:nvSpPr>
        <p:spPr>
          <a:xfrm>
            <a:off x="3276720" y="4726080"/>
            <a:ext cx="5724360" cy="79200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ство отбора педагогических кадров в учреждения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3276720" y="5589720"/>
            <a:ext cx="5724360" cy="105876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 для формирования трудового договора, фиксирующего отношения между работником и работодате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324000" y="3643200"/>
            <a:ext cx="25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ндарт это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" name="AutoShape 15"/>
          <p:cNvCxnSpPr>
            <a:stCxn id="350" idx="3"/>
            <a:endCxn id="345" idx="1"/>
          </p:cNvCxnSpPr>
          <p:nvPr/>
        </p:nvCxnSpPr>
        <p:spPr>
          <a:xfrm flipV="1">
            <a:off x="2916000" y="1953720"/>
            <a:ext cx="361080" cy="197856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52" name="AutoShape 16"/>
          <p:cNvCxnSpPr>
            <a:stCxn id="350" idx="3"/>
            <a:endCxn id="346" idx="1"/>
          </p:cNvCxnSpPr>
          <p:nvPr/>
        </p:nvCxnSpPr>
        <p:spPr>
          <a:xfrm flipV="1">
            <a:off x="2916000" y="3104640"/>
            <a:ext cx="361080" cy="82800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53" name="AutoShape 17"/>
          <p:cNvCxnSpPr>
            <a:stCxn id="350" idx="3"/>
            <a:endCxn id="347" idx="1"/>
          </p:cNvCxnSpPr>
          <p:nvPr/>
        </p:nvCxnSpPr>
        <p:spPr>
          <a:xfrm>
            <a:off x="2916000" y="3932280"/>
            <a:ext cx="361080" cy="32760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54" name="AutoShape 18"/>
          <p:cNvCxnSpPr>
            <a:stCxn id="350" idx="3"/>
            <a:endCxn id="348" idx="1"/>
          </p:cNvCxnSpPr>
          <p:nvPr/>
        </p:nvCxnSpPr>
        <p:spPr>
          <a:xfrm>
            <a:off x="2916000" y="3931920"/>
            <a:ext cx="361080" cy="119124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55" name="AutoShape 19"/>
          <p:cNvCxnSpPr>
            <a:stCxn id="350" idx="3"/>
            <a:endCxn id="349" idx="1"/>
          </p:cNvCxnSpPr>
          <p:nvPr/>
        </p:nvCxnSpPr>
        <p:spPr>
          <a:xfrm>
            <a:off x="2916000" y="3932280"/>
            <a:ext cx="361080" cy="218808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539640" y="1628640"/>
            <a:ext cx="5365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е 2012 года президент РФ Владимир Путин поручил разработать профессиональные стандарты для учителей русского языка и мате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4"/>
          <p:cNvSpPr/>
          <p:nvPr/>
        </p:nvSpPr>
        <p:spPr>
          <a:xfrm>
            <a:off x="539640" y="260280"/>
            <a:ext cx="83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aramond"/>
              </a:rPr>
              <a:t>Немного из истории  Стандарта</a:t>
            </a:r>
            <a:r>
              <a:rPr b="0" lang="ru-RU" sz="4400" spc="-1" strike="noStrike">
                <a:solidFill>
                  <a:srgbClr val="cc33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E:\профстандарт педагога\педсовет Дулесово\img099.jpg"/>
          <p:cNvPicPr/>
          <p:nvPr/>
        </p:nvPicPr>
        <p:blipFill>
          <a:blip r:embed="rId1"/>
          <a:stretch/>
        </p:blipFill>
        <p:spPr>
          <a:xfrm>
            <a:off x="5508720" y="2349360"/>
            <a:ext cx="335124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нцепция Стандар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е профессиональное качество, которое педагог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ен постоянно демонстрировать своим ученикам –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читься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3"/>
          <p:cNvSpPr/>
          <p:nvPr/>
        </p:nvSpPr>
        <p:spPr>
          <a:xfrm>
            <a:off x="0" y="83664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рактеристика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станд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395280" y="1670760"/>
            <a:ext cx="8424720" cy="36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Профессиональный стандарт педагога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мочный докумен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пределяю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бования к его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квалифика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ациональная рамка стандарта может бы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ена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региональными требования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читывающими социокультурные, демографические и прочие особенности данной территории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468360" y="1669680"/>
            <a:ext cx="8461440" cy="38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стандарт педагога может быть такж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ен </a:t>
            </a:r>
            <a:r>
              <a:rPr b="0" lang="ru-RU" sz="24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внутренним стандартом образовательного учреждения</a:t>
            </a:r>
            <a:r>
              <a:rPr b="0" lang="ru-RU" sz="24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аналогии со стандартом предприятия), в соответствии со спецификой реализуемых в данном учреждении образовательных программ (школа для одаренных, инклюзивная школа и т.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стандарт педагога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ев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читывающим специфику работы педагогов в дошкольных учреждениях, начальной, основной и старшей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0" y="83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рактеристика станд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0:31:00Z</dcterms:created>
  <dc:creator>СЕРГЕЙ</dc:creator>
  <dc:description/>
  <dc:language>en-US</dc:language>
  <cp:lastModifiedBy>USERZAV</cp:lastModifiedBy>
  <dcterms:modified xsi:type="dcterms:W3CDTF">2016-02-25T12:36:47Z</dcterms:modified>
  <cp:revision>72</cp:revision>
  <dc:subject/>
  <dc:title>Слайд 1</dc:title>
</cp:coreProperties>
</file>